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5.jpeg" ContentType="image/jpeg"/>
  <Override PartName="/ppt/media/image1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26.png" ContentType="image/png"/>
  <Override PartName="/ppt/media/image2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984-B527-4DBE-9F4E-565B53AC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B81-520B-44E5-AF69-2FB80A6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2C2-5614-4148-A32C-40E6558F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3C8-47FD-4BB9-90AE-E7F86629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2BC1-FE55-4B38-9ED3-F99888E2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32FB-1C1F-4C21-A94F-7444E158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D416-DD39-493F-B2E7-70C10A32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457E-04B5-422E-8D19-B280422B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A2FD-01CF-45B9-8D57-50DCF47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6714-C971-4C18-BD69-F4E90302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FB6D-BBA8-4CB4-A073-74EC335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87E-ED02-4410-9706-95F99347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1C4F-B558-4EA0-9B31-E82467C1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4D35-7907-4AE3-8171-F11288B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0247-BE4B-49AF-A926-3FC16F2C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6E60-9C47-4A73-8B15-87DB1EB5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B15C-F3B9-48AE-A444-C357B361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875-5897-4184-98FE-CCE850AC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5F7A-5ED3-4812-8711-8E442952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FAE-2A46-4928-8C4B-4ED67B3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1EF-096A-43B8-9B9C-8EE5FD72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FC9-19AF-42A0-AC96-0CB78CCB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719-4F95-4BA2-B5B4-C67B264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601-ED51-486F-861C-134D5E96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5C2C-69E2-4AF7-8B0A-7B610362FA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9051-6572-474A-A155-7CB918F929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64880"/>
            <a:ext cx="769608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ogram Przedszkolnej Edukacji Antytytoniowej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„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CZYSTE POWIETRZE WOKÓŁ NAS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24000" y="189000"/>
          <a:ext cx="159516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59516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2189160"/>
            <a:ext cx="5688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6870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 dymi?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Jak dymi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Słabo? Mocno? Jakie kolory mają dymy?)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laczego dymi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096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tóry zapach jest przyjemniejsz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zapach kwiat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czy dymiące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                                       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papiero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92360" y="3068640"/>
            <a:ext cx="1780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909720"/>
            <a:ext cx="655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705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Comic Sans MS"/>
              </a:rPr>
              <a:t>JAK SIĘ CZUJESZ KIED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69696"/>
                </a:solidFill>
                <a:latin typeface="Comic Sans MS"/>
              </a:rPr>
              <a:t> DYMI PAPIE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348000" y="359568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03640" y="335772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537080" cy="3019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651640" y="98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556000" y="4292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Wszystkie dzieci wołają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Papieros to wróg nasz, zdrowie zabier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Nie wolno! To szkodzi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Dość tego palenia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5792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Drogie dzieci, </a:t>
            </a:r>
            <a:br>
              <a:rPr sz="4000"/>
            </a:b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czy wiecie co oznacza ten symbol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71640" y="2733840"/>
            <a:ext cx="3672000" cy="341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711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2987640" y="0"/>
          <a:ext cx="30351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0"/>
                    <a:ext cx="30351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2293920" cy="230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940360" y="3068640"/>
            <a:ext cx="2592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ażdy z tych znaczków informuj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TU NIE WOLNO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PALIĆ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632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o nasz bohater - 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DIN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700280"/>
            <a:ext cx="2521080" cy="2160360"/>
          </a:xfrm>
          <a:prstGeom prst="wedgeEllipseCallout">
            <a:avLst>
              <a:gd name="adj1" fmla="val 60768"/>
              <a:gd name="adj2" fmla="val 2413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ajcie kochane dziec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3257640" y="1844640"/>
            <a:ext cx="368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152280"/>
            <a:ext cx="6696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ff"/>
                </a:solidFill>
                <a:latin typeface="Comic Sans MS"/>
              </a:rPr>
              <a:t>Czy wiecie </a:t>
            </a:r>
            <a:br>
              <a:rPr sz="5400"/>
            </a:br>
            <a:r>
              <a:rPr b="0" lang="en-US" sz="5400" spc="-1" strike="noStrike">
                <a:solidFill>
                  <a:srgbClr val="9966ff"/>
                </a:solidFill>
                <a:latin typeface="Comic Sans MS"/>
              </a:rPr>
              <a:t>w jakich miejscach można spotkać taki znaczek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711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 budynkach i na terenie przedszkoli, szkó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5436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54508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6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miejscach przeznaczony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zabaw dla dziec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a przystankach komunikacji publicznej oraz w autobusac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905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960720" cy="4680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662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ogólnodostępnych miejscach wypoczynku – parki miejsk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ogólnodostępnych miejscach wypoczynku - plaż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007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2560" y="1989000"/>
            <a:ext cx="6877080" cy="24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iektórzy ludzie palący papierosy robią to przy ludziach, którzy nie znoszą dymu papierosowego i wiedzą, że jest on szkodliwy dla zdrow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Comic Sans MS"/>
              </a:rPr>
              <a:t>W jak sposób można zwrócić uwagę takim osobo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Comic Sans MS"/>
              </a:rPr>
              <a:t>Jak unikać szkodliwego dymu papierosoweg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469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y pokazać palącym, że nie chcecie żeby przy was palili, możecie przygotować własne znaczk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z zakazem palen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635280" y="4797360"/>
            <a:ext cx="15145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912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ykonajcie taki znaczek w przedszkolu (pomoże Wam opiekun), zabierzcie do domu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rzyklejcie na drzwiach swojego pokoju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514520" cy="140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627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200"/>
                </a:solidFill>
                <a:latin typeface="Comic Sans MS"/>
              </a:rPr>
              <a:t>Sympatyczny Dinek pomoże Wam zapoznać się z różnymi rodzajami dymu, porozmawiamy o szkodliwości dymu papierosowego oraz jak go unikać, nauczymy się także piosenki o Dinusiu. Nie zabraknie też wesołej twórczości, czyli malowania i kolorowania.</a:t>
            </a: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00b200"/>
                </a:solidFill>
                <a:latin typeface="Comic Sans MS"/>
              </a:rPr>
              <a:t>ZACZYNAMY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6300720" y="3860640"/>
            <a:ext cx="21211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6870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Dzięki niemu nikt nie będzie palił papierosów w Twoim pokoju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15145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6870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śli ktoś z dorosłych będzie palił papierosy w Twojej obecności, powiedz mu głośno: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„NIE PAL PRZY MNIE, PROSZĘ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493092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braz 3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9464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3024360" cy="4271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50920" y="907920"/>
            <a:ext cx="2663640" cy="2449800"/>
          </a:xfrm>
          <a:prstGeom prst="wedgeEllipseCallout">
            <a:avLst>
              <a:gd name="adj1" fmla="val 73300"/>
              <a:gd name="adj2" fmla="val 3340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idzenia kochane dziec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24000" y="1938240"/>
            <a:ext cx="56880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30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Dym jest nie do wytrzymania."/>
          <p:cNvPicPr/>
          <p:nvPr/>
        </p:nvPicPr>
        <p:blipFill>
          <a:blip r:embed="rId1"/>
          <a:stretch/>
        </p:blipFill>
        <p:spPr>
          <a:xfrm>
            <a:off x="2124000" y="1989000"/>
            <a:ext cx="5400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5640" y="2149560"/>
            <a:ext cx="554508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50920" y="2097000"/>
            <a:ext cx="561672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83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79640" y="22017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6:34:09Z</dcterms:created>
  <dc:creator>OZ</dc:creator>
  <dc:description/>
  <dc:language>en-US</dc:language>
  <cp:lastModifiedBy>OZ</cp:lastModifiedBy>
  <dcterms:modified xsi:type="dcterms:W3CDTF">2012-08-06T10:09:52Z</dcterms:modified>
  <cp:revision>22</cp:revision>
  <dc:subject/>
  <dc:title>Slajd 1</dc:title>
</cp:coreProperties>
</file>