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5.jpeg" ContentType="image/jpeg"/>
  <Override PartName="/ppt/media/image1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26.png" ContentType="image/png"/>
  <Override PartName="/ppt/media/image2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336-D230-443D-8FD3-EEC6BCF1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F76-FD3A-4F1E-92EB-9326E317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1DF-3354-4E5A-8CFF-E5A98619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DF8-03CD-4BED-888F-5CF3271A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412-30F6-4957-BE42-BAB6012F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CD3-BE37-48CB-A39E-49C48067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BB71-8969-4687-AECA-4562FED6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AB61-1428-4A5C-8F06-22D7113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F0F9-7F62-49DF-82C8-3CCB5AC2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70BB-4B5E-4467-B1A5-CE88D6A2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A19-AEE1-4FE1-8DA4-A088364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CED-C9DA-4BF3-A9C6-56C9D60C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A3C2-B937-4FCC-9B1F-4EF2037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484-DB01-4602-AC38-482AD3C5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1BB2-2902-489E-B634-8C90F8B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B76A-FA0C-4FA6-8360-862AC53F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0F6C-53D1-41E1-80DB-6682DA90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A93-DD41-4963-AF3F-C847AC46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70E-BAAC-42E8-AB45-C9CB9A1C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55E-7A5C-4400-A52E-729FFA84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BCF-492D-4C5B-BF7D-0AF415A3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B44-8BDA-4521-9891-6D8400B7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FA4-24CD-47C1-ADC2-974ABFE0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52A-5A5E-4F6B-B3FF-AC75DD6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C825-543F-4F3F-9346-360CCAD1BB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FCB1-C106-4025-9F4D-E1C8256383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64880"/>
            <a:ext cx="7696080" cy="35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gram Przedszkolnej Edukacji Antytytoniowej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„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CZYSTE POWIETRZE WOKÓŁ NAS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24000" y="189000"/>
          <a:ext cx="159516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59516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2189160"/>
            <a:ext cx="5688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6870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 dymi?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Jak dymi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Słabo? Mocno? Jakie kolory mają dymy?)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laczego dymi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096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tóry zapach jest przyjemniejsz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zapach kwiat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czy dymiące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                                       </a:t>
            </a:r>
            <a:r>
              <a:rPr b="0" lang="en-US" sz="3200" spc="-1" strike="noStrike">
                <a:solidFill>
                  <a:srgbClr val="777777"/>
                </a:solidFill>
                <a:latin typeface="Comic Sans MS"/>
              </a:rPr>
              <a:t>papieros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92360" y="3068640"/>
            <a:ext cx="1780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909720"/>
            <a:ext cx="655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7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Comic Sans MS"/>
              </a:rPr>
              <a:t>JAK SIĘ CZUJESZ KIED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69696"/>
                </a:solidFill>
                <a:latin typeface="Comic Sans MS"/>
              </a:rPr>
              <a:t> DYMI PAPIERO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348000" y="359568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4537080" cy="3019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651640" y="98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556000" y="4292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szystkie dzieci wołają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Papieros to wróg nasz, zdrowie zabiera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Nie wolno! To szkodzi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Dość tego palenia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5792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Drogie dzieci, </a:t>
            </a:r>
            <a:br>
              <a:rPr sz="4000"/>
            </a:b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czy wiecie co oznacza ten symbol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71640" y="2733840"/>
            <a:ext cx="3672000" cy="341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711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2987640" y="0"/>
          <a:ext cx="30351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0"/>
                    <a:ext cx="30351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293920" cy="230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2592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ażdy z tych znaczków informuj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TU NIE WOLNO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PALIĆ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632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o nasz bohater - 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DIN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700280"/>
            <a:ext cx="2521080" cy="2160360"/>
          </a:xfrm>
          <a:prstGeom prst="wedgeEllipseCallout">
            <a:avLst>
              <a:gd name="adj1" fmla="val 60768"/>
              <a:gd name="adj2" fmla="val 2413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ajcie kochane dzie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3257640" y="1844640"/>
            <a:ext cx="3687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152280"/>
            <a:ext cx="6696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ff"/>
                </a:solidFill>
                <a:latin typeface="Comic Sans MS"/>
              </a:rPr>
              <a:t>Czy wiecie </a:t>
            </a:r>
            <a:br>
              <a:rPr sz="5400"/>
            </a:br>
            <a:r>
              <a:rPr b="0" lang="en-US" sz="5400" spc="-1" strike="noStrike">
                <a:solidFill>
                  <a:srgbClr val="9966ff"/>
                </a:solidFill>
                <a:latin typeface="Comic Sans MS"/>
              </a:rPr>
              <a:t>w jakich miejscach można spotkać taki znaczek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711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 budynkach i na terenie przedszkoli, szkó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5436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54508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6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miejscach przeznaczony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zabaw dla dziec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 przystankach komunikacji publicznej oraz w autobusac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905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960720" cy="4680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662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ogólnodostępnych miejscach wypoczynku – parki miejsk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ogólnodostępnych miejscach wypoczynku - plaż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007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560" y="1989000"/>
            <a:ext cx="6877080" cy="24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iektórzy ludzie palący papierosy robią to przy ludziach, którzy nie znoszą dymu papierosowego i wiedzą, że jest on szkodliwy dla zdrowi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W jak sposób można zwrócić uwagę takim osobo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Comic Sans MS"/>
              </a:rPr>
              <a:t>Jak unikać szkodliwego dymu papierosowego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469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y pokazać palącym, że nie chcecie żeby przy was palili, możecie przygotować własne znaczk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 zakazem palen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635280" y="4797360"/>
            <a:ext cx="15145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912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ykonajcie taki znaczek w przedszkolu (pomoże Wam opiekun), zabierzcie do domu 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zyklejcie na drzwiach swojego pokoju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24360" y="5013360"/>
            <a:ext cx="1514520" cy="140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627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200"/>
                </a:solidFill>
                <a:latin typeface="Comic Sans MS"/>
              </a:rPr>
              <a:t>Sympatyczny Dinek pomoże Wam zapoznać się z różnymi rodzajami dymu, porozmawiamy o szkodliwości dymu papierosowego oraz jak go unikać, nauczymy się także piosenki o Dinusiu. Nie zabraknie też wesołej twórczości, czyli malowania i kolorowania.</a:t>
            </a: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b200"/>
                </a:solidFill>
                <a:latin typeface="Comic Sans MS"/>
              </a:rPr>
              <a:t>ZACZYNAMY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300720" y="3860640"/>
            <a:ext cx="21211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6870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Dzięki niemu nikt nie będzie palił papierosów w Twoim pokoju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5145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6870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śli ktoś z dorosłych będzie palił papierosy w Twojej obecności, powiedz mu głośno: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„NIE PAL PRZY MNIE, PROSZĘ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93092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3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946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3024360" cy="4271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907920"/>
            <a:ext cx="2663640" cy="2449800"/>
          </a:xfrm>
          <a:prstGeom prst="wedgeEllipseCallout">
            <a:avLst>
              <a:gd name="adj1" fmla="val 73300"/>
              <a:gd name="adj2" fmla="val 3340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idzenia kochane dziec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24000" y="1938240"/>
            <a:ext cx="56880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30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Dym jest nie do wytrzymania."/>
          <p:cNvPicPr/>
          <p:nvPr/>
        </p:nvPicPr>
        <p:blipFill>
          <a:blip r:embed="rId1"/>
          <a:stretch/>
        </p:blipFill>
        <p:spPr>
          <a:xfrm>
            <a:off x="2124000" y="1989000"/>
            <a:ext cx="540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2149560"/>
            <a:ext cx="554508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0920" y="2097000"/>
            <a:ext cx="561672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832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ODZAJE DYMÓ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79640" y="22017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6:34:09Z</dcterms:created>
  <dc:creator>OZ</dc:creator>
  <dc:description/>
  <dc:language>en-US</dc:language>
  <cp:lastModifiedBy>OZ</cp:lastModifiedBy>
  <dcterms:modified xsi:type="dcterms:W3CDTF">2012-08-06T10:09:52Z</dcterms:modified>
  <cp:revision>22</cp:revision>
  <dc:subject/>
  <dc:title>Slajd 1</dc:title>
</cp:coreProperties>
</file>