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3"/>
          </p:nvPr>
        </p:nvSpPr>
        <p:spPr>
          <a:xfrm>
            <a:off x="3854160" y="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74320" y="1238400"/>
            <a:ext cx="4457880" cy="33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14"/>
          </p:nvPr>
        </p:nvSpPr>
        <p:spPr>
          <a:xfrm>
            <a:off x="0" y="941076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15"/>
          </p:nvPr>
        </p:nvSpPr>
        <p:spPr>
          <a:xfrm>
            <a:off x="385416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66A4-7FFA-4CB5-BD3E-F334516943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5C53-E2B9-4BB6-A8C2-71E524E8049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3701-AB77-43A1-9AB0-CF335BD3EF2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5685-2F02-4354-A61A-53B674B3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1CD4-E8F7-4E16-965B-3AF86AAE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3086-3835-4D83-88DC-AEA41E48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21B9-FB90-46B1-9F01-A883F7BF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C1B4-DEF1-473E-961F-AC5B109A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D49A-52DE-403F-BEC4-EB42E7D5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4BAB-7128-4D6D-9744-91F9284F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072D-7E08-4230-97AE-8AC0FA6A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CDE7-20C0-4B9D-8BA9-2D88071C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E16E-DD31-4C39-B977-5D969C6E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3CCC-98E8-4C1A-A0D9-328772EA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4B3F-7B7D-40AC-8109-CAA9405F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17BF5-18E6-4E92-9450-4038829C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2FE3F-8698-4B0C-BC60-A236290C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9D9E-E3A0-4005-AF13-4720C8F2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971B1-63CF-4AE5-9347-C4825FF1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5EBBA-403B-4D08-95EE-7495CACC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3FD14-55F2-4648-85B7-AC0FD96B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7A373-7B82-4279-A158-2BA00451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60018-1185-49BA-A650-218C9063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7A30B-E472-45F2-957B-6960982E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3EA43-F645-43C0-B79F-9B298243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0420E-7D3A-42F6-98F0-9D36D3BA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5839E-1B9C-45E5-8A7D-6F3722AC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642A5-8799-4FA1-A12F-910AD13C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F32BD-1759-4635-A956-1F10130F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3638E-2209-4A38-B887-1886D86F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F37D7-716B-44A8-8D16-19AF442C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30510-7F79-4B37-9C51-CC1CEBBB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6D387-E253-49C2-93CD-35FFBF02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7ABF2-9004-4926-98B8-B9080AE5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1DE28-0BE2-4F88-9129-74A4A2FB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2ACDF-4DFA-4DC9-844B-070DAEEE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6AAB2-A291-4622-8221-5B49B6AD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1543F-FDD1-42E5-ACC9-A400ECE7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05135-00FA-4644-9417-2798BB25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6504120"/>
            <a:ext cx="6157800" cy="361800"/>
          </a:xfrm>
          <a:prstGeom prst="rect">
            <a:avLst/>
          </a:prstGeom>
          <a:solidFill>
            <a:srgbClr val="84c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457200" y="6504120"/>
            <a:ext cx="8686800" cy="361800"/>
          </a:xfrm>
          <a:prstGeom prst="rect">
            <a:avLst/>
          </a:prstGeom>
          <a:solidFill>
            <a:srgbClr val="c7e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Obraz 3" descr=""/>
          <p:cNvPicPr/>
          <p:nvPr/>
        </p:nvPicPr>
        <p:blipFill>
          <a:blip r:embed="rId2"/>
          <a:stretch/>
        </p:blipFill>
        <p:spPr>
          <a:xfrm>
            <a:off x="6033960" y="6103800"/>
            <a:ext cx="2820960" cy="925560"/>
          </a:xfrm>
          <a:prstGeom prst="rect">
            <a:avLst/>
          </a:prstGeom>
          <a:ln w="0">
            <a:noFill/>
          </a:ln>
        </p:spPr>
      </p:pic>
      <p:pic>
        <p:nvPicPr>
          <p:cNvPr id="5" name="Obraz 9" descr=""/>
          <p:cNvPicPr/>
          <p:nvPr/>
        </p:nvPicPr>
        <p:blipFill>
          <a:blip r:embed="rId3"/>
          <a:stretch/>
        </p:blipFill>
        <p:spPr>
          <a:xfrm>
            <a:off x="324000" y="33480"/>
            <a:ext cx="1800000" cy="793440"/>
          </a:xfrm>
          <a:prstGeom prst="rect">
            <a:avLst/>
          </a:prstGeom>
          <a:ln w="0">
            <a:noFill/>
          </a:ln>
        </p:spPr>
      </p:pic>
      <p:pic>
        <p:nvPicPr>
          <p:cNvPr id="6" name="Obraz 10" descr=""/>
          <p:cNvPicPr/>
          <p:nvPr/>
        </p:nvPicPr>
        <p:blipFill>
          <a:blip r:embed="rId4"/>
          <a:stretch/>
        </p:blipFill>
        <p:spPr>
          <a:xfrm>
            <a:off x="6910560" y="189000"/>
            <a:ext cx="1944360" cy="5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4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8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33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8"/>
          <p:cNvSpPr/>
          <p:nvPr/>
        </p:nvSpPr>
        <p:spPr>
          <a:xfrm>
            <a:off x="0" y="500040"/>
            <a:ext cx="928800" cy="1071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FE7D-AE08-451D-A361-280CF97B8B74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2891-BABC-45F8-8D3F-39B82F4E7175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224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532E-D1F0-4B24-A19D-FFB0246FDDE0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rostokąt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H:\Grupy\DL\FOTOLIA\Fotolia_65208503_M.jpg"/>
          <p:cNvPicPr/>
          <p:nvPr/>
        </p:nvPicPr>
        <p:blipFill>
          <a:blip r:embed="rId1"/>
          <a:srcRect l="0" t="0" r="3757" b="0"/>
          <a:stretch/>
        </p:blipFill>
        <p:spPr>
          <a:xfrm>
            <a:off x="0" y="-2700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275" name="Prostokąt 30"/>
          <p:cNvSpPr/>
          <p:nvPr/>
        </p:nvSpPr>
        <p:spPr>
          <a:xfrm>
            <a:off x="0" y="239544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31"/>
          <p:cNvSpPr/>
          <p:nvPr/>
        </p:nvSpPr>
        <p:spPr>
          <a:xfrm>
            <a:off x="704880" y="2554200"/>
            <a:ext cx="83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odowy Fundusz Ochrony Środowiska i Gospodarki Wod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ole tekstowe 32"/>
          <p:cNvSpPr/>
          <p:nvPr/>
        </p:nvSpPr>
        <p:spPr>
          <a:xfrm>
            <a:off x="704880" y="28814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ęść 1) Sokół – wdrożenie innowacyjnych technologii środowisk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Obraz 11" descr=""/>
          <p:cNvPicPr/>
          <p:nvPr/>
        </p:nvPicPr>
        <p:blipFill>
          <a:blip r:embed="rId2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79" name="pole tekstowe 9"/>
          <p:cNvSpPr/>
          <p:nvPr/>
        </p:nvSpPr>
        <p:spPr>
          <a:xfrm>
            <a:off x="870120" y="52912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ichał Szczepa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partament Innowacji i Ekspert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rostokąt 13"/>
          <p:cNvSpPr/>
          <p:nvPr/>
        </p:nvSpPr>
        <p:spPr>
          <a:xfrm>
            <a:off x="-9360" y="383688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ole tekstowe 3"/>
          <p:cNvSpPr/>
          <p:nvPr/>
        </p:nvSpPr>
        <p:spPr>
          <a:xfrm>
            <a:off x="3013200" y="4079880"/>
            <a:ext cx="6121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ryteria oceny projektów dla fazy B+R i fazy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nstrukcja wypełniania w GWoD dla fazy B+R i fazy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B+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B+R posiada tylko kryteria jakościowe dopuszczają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a pozycja jest oceniana na zasadzie spełnia – nie spełnia. Nie ma punktacj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Negatywna ocena któregokolwiek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nfosigw.gov.pl/gfx/nfosigw/userfiles/files/srodki_krajowe/programy_2018/sokol/pp_wsaprcie_dla_innowacji_-zmiana_06.11.2018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W posiada tylko kryteria jakościowe punktowe w zakresie oceny </a:t>
            </a:r>
            <a:br>
              <a:rPr sz="1800"/>
            </a:b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ekologiczno - techniczne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niosek musi otrzymać całościowo oraz w grupach (I, II, III) co najmniej 60% możliwych do zdobycia punk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e kryterium posiada minimum punktowe oprócz II.1 oraz II.3, dla których negatywna ocena nie powoduje odrzucenia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http://nfosigw.gov.pl/gfx/nfosigw/userfiles/files/srodki_krajowe/programy_2018/sokol/pp_wsaprcie_dla_innowacji_-zmiana_06.11.2018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Krajowe Inteligente Specjalizacje (KIS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79280" y="2133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rajowe Inteligentne Specjalizacje – szczegółowy opis wszystkich KIS znajduje się pod poniższym linki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http://nfosigw.gov.pl/gfx/nfosigw/userfiles/files/srodki_krajowe/programy2015-2020/sokol/2018_iii_nabor/opis_krajowe_inteligentne_specjalizacje__2018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IS, które obowiązują w danym naborze, są wskazane w Programie Priorytetowy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nstrukcja wypełniania GW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4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Generator wniosków o dofinansowanie jest narzędziem umożliwiającym przygotowanie i przekazanie do Narodowego Funduszu Ochrony Środowiska i Gospodarki Wodnej wniosków o dofinansowanie projektów ze środków krajowych oraz realizowanych w ramach POIiŚ 2014-202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orzystanie z Generatora polega na rejestrowaniu danych poprzez sieć Internet w bazie NFOŚiG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 celu zautomatyzowania pracy – system posiada formularze wniosków gotowe do wypełnien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ttp://gwd.nfosigw.gov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aza B+R – 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ole tekstowe 1"/>
          <p:cNvSpPr/>
          <p:nvPr/>
        </p:nvSpPr>
        <p:spPr>
          <a:xfrm>
            <a:off x="250920" y="176544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bowiąz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Mapa lokalizacyjna inwesty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lan prac badawczo-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chemat technologiczny innowacyjnej technologii będącej przedmiotem prac badawczo rozwoj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ieobowiązkowe - uzupełniają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ublikacje naukow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pinie jednostek naukowo badawcz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ykaz niezbędnego sprzętu wraz z wyce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chemat organizacyjny jednostki badawczo rozwoj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Inne dokumenty: zgłoszenie patentowe, licencje, umowy z jednostkami badawczymi, listy intencyjne potwierdzające zapotrzebowanie na wyniki prac badawczo rozwojowych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ole tekstowe 1"/>
          <p:cNvSpPr/>
          <p:nvPr/>
        </p:nvSpPr>
        <p:spPr>
          <a:xfrm>
            <a:off x="250920" y="176544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bowiąz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Mapa lokalizacyjna inwesty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chemat technologiczny innowacyjnej technologii będącej przedmiotem wdraża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tudium wykonalności (opracowane wg wymagań zawartych w Instrukcji sporządzania Studium Wykonalności dla przedsięwzięcia ubiegającego się o dofinansowanie ze środków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FOŚiGW dostępnej w generatorze wnioskó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ieobowiązkowe - uzupełniają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Uzyskane główne dokumenty administracyjne przedstawiające proces uzgodnieniowy przeprowadzenia inwestycji: np. decyzje środowiskowe, pozwolenie na budowę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armonogram realizacji prac budowlanych (jeśli dotycz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armonogram uzyskiwania zgód administracyjnych (jeśli dotycz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Udokumentowanie prawa do dysponowania nieruchomości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yceny, otrzymane oferty, kosztorys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odatkowe dokumenty: zgłoszenia patentowe, licencje, umowy z dostawcami, listy intencyjne potwierdzające zapotrzebowanie na produkt itp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aza W – 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ymbol zastępczy zawartości 2"/>
          <p:cNvSpPr/>
          <p:nvPr/>
        </p:nvSpPr>
        <p:spPr>
          <a:xfrm>
            <a:off x="415800" y="34275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ziękuję za uwagę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ymbol zastępczy zawartości 2"/>
          <p:cNvSpPr/>
          <p:nvPr/>
        </p:nvSpPr>
        <p:spPr>
          <a:xfrm>
            <a:off x="0" y="551664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ichał Szczepa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ichal.szczepaniak@nfosigw.gov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1:17:11Z</dcterms:created>
  <dc:creator>MPietras</dc:creator>
  <dc:description/>
  <dc:language>en-US</dc:language>
  <cp:lastModifiedBy>Szczepaniak Michał</cp:lastModifiedBy>
  <cp:lastPrinted>2016-08-08T05:02:58Z</cp:lastPrinted>
  <dcterms:modified xsi:type="dcterms:W3CDTF">2018-12-15T08:56:29Z</dcterms:modified>
  <cp:revision>409</cp:revision>
  <dc:subject/>
  <dc:title>Slajd 1</dc:title>
</cp:coreProperties>
</file>